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ADF-D0D4-41AC-9F3C-5759728A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DC6-B38C-48E9-978A-D853B07B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29D-3FB5-49D1-B92A-74BD770F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53D-E831-479E-B96E-5A221E3B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1AC4-B4CF-4700-8F65-90F89CB6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79BE-F3F9-4FD6-BD4B-1C417761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847B-5BD2-4439-A303-3A60A72D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CDC0-7761-4993-97FD-15B576DD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B8BB-A400-474A-8955-90CC4090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9C31-76AA-4214-A50B-236F7F32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59B2-F0C8-4B11-911D-E50EB37C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ED1-0AEB-4B23-8D81-4EF37FB7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2F13-C7EB-46B0-9783-6E25E2AF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FCE0-2794-44AC-946C-C80B1E0A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7275-F8EE-4EB1-9BF8-B725923A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CFAE-D107-4285-ACB4-D3F5A21D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3991-A100-426B-93E4-EFF39B7B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CE52-01C1-4586-AB8E-0DBF35C9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1905-2A63-4830-81E0-1998A38F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8A6AF-3261-4C1E-94DA-33D4CE39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DE18-FB1B-4CA2-B363-976388FE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BC7C7-C921-4680-9950-0E8BA323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BC9-6DCA-4A4E-9078-EBA195F2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4B9D-0448-4FBC-A1BD-98D72DF4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21382-331D-4104-8384-FE451833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8834-BF47-4943-BD5E-A3ED4003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F06C-20F2-4629-9709-BB59F941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00DD6-8331-4E3D-B625-F8259F43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5BF3-FCAE-4297-B673-F6344FB4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1379-0115-454E-8E10-0B7FF371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342B8-F8E4-4450-B6D2-243A1B00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32281-1D08-462B-ADDA-6BB9ECD0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3A950-8C5F-4E7B-8928-E9E3821A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161-9487-478E-BDE3-C26B5D24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EDD0-4377-4865-A954-98A1E3B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F79B3-6FA7-47AA-8284-C5DA323B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5935B-5218-4817-A8C6-DFC212C1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C3439-ACB5-467D-BBC4-9859C724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44D49-E9BA-40EA-A788-DCD09B4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4592-6DF5-4C1E-9CB3-6D86E84E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916C0-8084-48BC-9154-A7F53B08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F5854-61E8-4A57-A2B7-9AB05E3A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B9F2F-834D-4D65-90D0-C8200BFA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450E5-8338-42E0-A2D1-F638F75E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03D-87FD-4F39-8E68-DA3512B2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01227-A5D0-4B04-B23D-DC8D2835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84B6D-2D4A-40EB-AA25-752FF859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A09B6-F8BD-467C-93A7-B71E9BFF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801C-6AA2-4E86-B5AF-96B702B2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2391-90F4-4C18-83E0-8C888BE7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6E0B5-34E1-4E04-9BA2-BAC1CA8E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FD645-C0E3-418D-A2EF-B037C2E4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A6C6F-D9C5-4894-9ADD-07E2376B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B1746-F1C6-4F8B-A2CA-B0C4D1C1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0C95D-74BA-432A-99AF-79D4E0CF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D31-298F-4510-88BE-56023F23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11E74-D1D0-4399-A107-13617246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CA2EA-620E-4BDE-960F-92CEE1C1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9EEEB-1FF5-4498-A16B-DD14CC4C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F8E1E-AE65-4426-BACF-F597C7D0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DB689-B6A0-465C-8DE0-951E8861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50735-A396-4BB9-814B-3D1C8509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77AA0-FC94-4D3E-8484-D3723C12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B042B-2405-449B-851D-9EC9CD60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68D19-46A2-4AFF-9669-216DB2B4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FB118-913A-4318-8712-5F03EE23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557-30F6-41A0-92FC-5C5E814E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6F371-AB05-455F-ABE1-D53548BD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D7EC3-D801-440A-9871-D264621E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6F147-4CBA-4902-846E-E33A7E14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E8B-F95C-44FF-8612-5D5B92D4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795-8416-4B93-B280-4A08715E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1566-BB23-4CA6-89E2-C872C04D7FB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6398-87E0-404F-8945-14A1BA2E148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0D29-AC76-41FE-A93E-009853707BA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AED7-0458-45E1-8496-00A584FF620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DDA5-4764-48B2-BFBE-67FC189E64A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85FE-3487-4299-81B6-330E391657A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русского языка в 7 клас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295280" y="129528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авописание производных 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 или И? Кто быстре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8080" y="2742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В течени… дня заросли неузнаваемо изменилис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Ошибки допущены вследстви… невнима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В продолжени… романа появятся новые геро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Мели постоянно попадались в течени… ре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. Шорох и шёпот слышались в продолжени… ча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 flipH="1">
            <a:off x="1175760" y="701028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143000" y="1295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на листке рядом с номером предложения вставленную букв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 или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524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тавьте буквы, выпишите их, прочитайте получившееся слово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1295280"/>
            <a:ext cx="368784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тем…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тт…с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негр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…ик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лон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…ссаж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…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нве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ар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…ьб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…з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9072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)пере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онны, об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)кр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ника, спешить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)встреч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и, пр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)з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щего трамвая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т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(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е)смотря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асность, перевести деньг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анке, поговорить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аменов; (не) смотря на доску, решил задачу;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ереездом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годы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продол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под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6002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гаться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пере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лонны, об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окру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амятника, спешить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навстреч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асности, пр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поза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оящего трамвая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теч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пасность, перевести деньги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 счё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банке, поговорить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счёт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заменов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 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ску, решил задачу;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связи 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ереездом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епогоды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продол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подоб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ве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3124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1600" y="95400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м правописание наре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ойте скобки, вставьт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914400" y="2325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)век, (на)отмаш…, точь(в)точь, бок(о)бок, (в)ручную, (по)ребячески, (во)первых, (по)нашему, (ото)всюду,  (не)жданно, (не)однократно, (не)правдиво, а лжи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уть (не)интересно, снов…, досрочн…, навзнич…, замуж…, (мало)помалу. (еле)еле, (не)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им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1828440"/>
            <a:ext cx="8183520" cy="39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век, наотмашь, точь - в -точь, бок о бок, вручную, по-ребячески, во-первы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-нашему, отовсюду,  нежданно, неоднократно, не правдиво, а лживо,  ничуть не интересно, снова, досрочно, навзничь, замуж, мало-помалу,  еле -еле, не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7"/>
          <p:cNvGrpSpPr/>
          <p:nvPr/>
        </p:nvGrpSpPr>
        <p:grpSpPr>
          <a:xfrm>
            <a:off x="755640" y="549360"/>
            <a:ext cx="7776000" cy="5902920"/>
            <a:chOff x="755640" y="549360"/>
            <a:chExt cx="7776000" cy="5902920"/>
          </a:xfrm>
        </p:grpSpPr>
        <p:cxnSp>
          <p:nvCxnSpPr>
            <p:cNvPr id="273" name="_s1028"/>
            <p:cNvCxnSpPr>
              <a:stCxn id="274" idx="0"/>
              <a:endCxn id="275" idx="2"/>
            </p:cNvCxnSpPr>
            <p:nvPr/>
          </p:nvCxnSpPr>
          <p:spPr>
            <a:xfrm flipV="1">
              <a:off x="686520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V="1">
              <a:off x="242136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1"/>
              <a:endCxn id="280" idx="2"/>
            </p:cNvCxnSpPr>
            <p:nvPr/>
          </p:nvCxnSpPr>
          <p:spPr>
            <a:xfrm rot="10800000">
              <a:off x="464292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78" idx="3"/>
              <a:endCxn id="280" idx="2"/>
            </p:cNvCxnSpPr>
            <p:nvPr/>
          </p:nvCxnSpPr>
          <p:spPr>
            <a:xfrm flipV="1">
              <a:off x="408816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0" name="_s1032"/>
            <p:cNvSpPr/>
            <p:nvPr/>
          </p:nvSpPr>
          <p:spPr>
            <a:xfrm>
              <a:off x="2977200" y="54936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о происхождению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редлоги бываю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75564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не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519912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5"/>
            <p:cNvSpPr/>
            <p:nvPr/>
          </p:nvSpPr>
          <p:spPr>
            <a:xfrm>
              <a:off x="75564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, на, за, из-за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-под, по-над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, под, у, от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>
              <a:off x="519912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Ввиду, вследстви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австречу,врод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есмотря на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авописание производных предлогов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990720" y="1295280"/>
          <a:ext cx="7619760" cy="425952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следствие(=по причин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роде        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подобие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место(=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счет(=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виду(=из-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есмотря на(=вопре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течение               (=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продол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целях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 стороны  (=о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 причине  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заключение(=в итог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514600" y="53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с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430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благод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8380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хорошей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м успе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беди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вы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72428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следствие, из-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105520" y="5029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724280" y="2286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лохой по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х неу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терпел пораж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ро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зличайте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ча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ся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ься вследствие непог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хать в продолжение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ь насчет пох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йти вмест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спеть ввиду опоз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, несмотря на труд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оты в течении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едствии по делу о кра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йте в продолжении ром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 на счет в ба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ть в место сбора отряд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йте это в в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мотря на прохож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 или И? Если вставили Е, выпишите первое слово из предложения, если И- второе. Прочитайте получившееся предложение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62120" y="198108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нужно идти в течени… цел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вороты следует искать в течени…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отыскать ошибки в следств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товый флажок отяжелел вследстви…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фр меняют в продолжени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2514240"/>
            <a:ext cx="8183520" cy="2203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вас должно получиться предлож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Вам следует отыскать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  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стартовый шифр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7</cp:lastModifiedBy>
  <dcterms:modified xsi:type="dcterms:W3CDTF">2013-05-07T02:24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